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E5C-D747-477B-9068-DFCBD627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61A-7684-44AF-957D-913DF4A6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37F-530B-420D-A24F-DD9B10AA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2C6-6C35-44C6-9EFB-C89A15DA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2A4F-9AD0-4668-A79E-8C2F110B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AB40-F64C-4A68-943B-5BAEDFC3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E33C-CEF9-4E0B-A133-B711D46B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E41D-AC92-443F-95BF-BC302CD4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95A2-5F31-4B3B-B976-8045DF8B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5579-677B-4D3D-812D-262604C8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8DCB-F959-4112-B5D9-BDE55D3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55F-5949-48A2-AF78-7E14AC7D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5785-237A-4A24-9243-046893C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820A-3D47-4680-A12B-7E983A9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4DFF-2A7B-4299-938D-F1BE873F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C5D-CAFD-43E8-A006-2CDBC62C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F80B-CEAF-44A9-841C-3836A710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DD9-3174-4263-9872-51382B03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3CA-4540-4C1E-B590-1A4E6C1B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959-A26C-457C-A90B-2D9EB2DC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725-A4FA-4417-867E-D8310149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DEA-C083-46B3-95D6-4ABC3154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4DA-89E0-45B5-A8CE-EAEBEAB6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BC0-95EB-4930-9689-C802F746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CAEB-16FE-4EBF-A289-DEC742D0F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8E6-99D1-45D5-8B41-20A7DC8CB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Grade Gramm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Noun names a person, place, thing, or animal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noun names a person or peopl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6" descr="MPj04395730000[1]"/>
          <p:cNvPicPr/>
          <p:nvPr/>
        </p:nvPicPr>
        <p:blipFill>
          <a:blip r:embed="rId1"/>
          <a:stretch/>
        </p:blipFill>
        <p:spPr>
          <a:xfrm>
            <a:off x="4572000" y="2514600"/>
            <a:ext cx="2435400" cy="3124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MPj04394270000[1]"/>
          <p:cNvPicPr/>
          <p:nvPr/>
        </p:nvPicPr>
        <p:blipFill>
          <a:blip r:embed="rId2"/>
          <a:stretch/>
        </p:blipFill>
        <p:spPr>
          <a:xfrm>
            <a:off x="1496880" y="2514600"/>
            <a:ext cx="2452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noun names a place or plac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6" descr="MPj04394360000[1]"/>
          <p:cNvPicPr/>
          <p:nvPr/>
        </p:nvPicPr>
        <p:blipFill>
          <a:blip r:embed="rId1"/>
          <a:stretch/>
        </p:blipFill>
        <p:spPr>
          <a:xfrm>
            <a:off x="1198440" y="1828800"/>
            <a:ext cx="274500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Pj02020450000[1]"/>
          <p:cNvPicPr/>
          <p:nvPr/>
        </p:nvPicPr>
        <p:blipFill>
          <a:blip r:embed="rId2"/>
          <a:stretch/>
        </p:blipFill>
        <p:spPr>
          <a:xfrm>
            <a:off x="4667400" y="1828800"/>
            <a:ext cx="2571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 noun names a thing or things. It also names animal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j0332364"/>
          <p:cNvPicPr/>
          <p:nvPr/>
        </p:nvPicPr>
        <p:blipFill>
          <a:blip r:embed="rId1"/>
          <a:stretch/>
        </p:blipFill>
        <p:spPr>
          <a:xfrm>
            <a:off x="1828800" y="2590920"/>
            <a:ext cx="1830240" cy="147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216858"/>
          <p:cNvPicPr/>
          <p:nvPr/>
        </p:nvPicPr>
        <p:blipFill>
          <a:blip r:embed="rId2"/>
          <a:stretch/>
        </p:blipFill>
        <p:spPr>
          <a:xfrm>
            <a:off x="4800600" y="2514600"/>
            <a:ext cx="1827360" cy="1752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MPj04394710000[1]"/>
          <p:cNvPicPr/>
          <p:nvPr/>
        </p:nvPicPr>
        <p:blipFill>
          <a:blip r:embed="rId3"/>
          <a:stretch/>
        </p:blipFill>
        <p:spPr>
          <a:xfrm>
            <a:off x="1828800" y="480060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Give Information in Writing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96440" cy="36576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nouns when writing gives readers information about people, places, things, and anim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use a noun or nouns in your wr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tences should always have a noun in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in Sent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lo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ai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o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larg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m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d fun at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Practice!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 ate two hot do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ode the ______ to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d a great time at the_____ on Fri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_______ has furry hair all over its bo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ew, Review, Review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noun names a person, place, thing, or anim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ing nouns when writing gives readers information about people, places, things, and anim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Always use a noun or nouns in your wri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Sentences should always have a noun in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3:51Z</dcterms:created>
  <dc:creator>Madison County Schools</dc:creator>
  <dc:description/>
  <dc:language>en-US</dc:language>
  <cp:lastModifiedBy>Laura McDow</cp:lastModifiedBy>
  <dcterms:modified xsi:type="dcterms:W3CDTF">2010-09-17T17:09:32Z</dcterms:modified>
  <cp:revision>7</cp:revision>
  <dc:subject/>
  <dc:title>Nouns</dc:title>
</cp:coreProperties>
</file>